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280-E7BF-43D5-A0DD-202C8062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281-8672-435B-9F91-0D13DCFA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254-12E1-4A4B-9F50-041B45BB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ED8-1CD9-4894-8E15-3AC72032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37B5-A39E-40E4-9743-AE457D09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3E62-D94B-4E45-90C9-6982E7D1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D180-9768-4C2D-9C26-7C830A1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592F-2C67-40A4-BAAD-5D551402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0A0C-0A51-49B0-95FB-116243C1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8EF4-BB16-48D2-834F-FBEA4772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0AB-A7E2-4DA8-B470-6072EFA6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2B2-775C-4B75-B727-75021822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6AD6-055E-4037-A66D-609AF3E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F6CC-2C6D-4F97-8C46-5A34B57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1D4F-61AB-4F0C-AD2C-253202C4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081F-C491-4384-B2D3-1A6C1298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1450-0360-4CBC-A98B-10D38695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5C8-32B0-471C-9FB5-BFD3AC7D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4D1-811A-40D5-9813-20601C81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05D-716D-4280-BC79-AF85EC4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F79-D2B7-4122-BD64-A85D9BFC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569-A1BF-46B1-871D-C237180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EEE-EF23-4CAE-A080-3982C9D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355-65EE-4E14-BB1D-FC3F59B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DD29-7A71-4503-A7C8-9A0BFB3C2F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99C9-8A8F-4555-A53C-49CFC7B1CF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Hino_da_Independ&#234;ncia_do_Brasil" TargetMode="External"/><Relationship Id="rId2" Type="http://schemas.openxmlformats.org/officeDocument/2006/relationships/hyperlink" Target="http://pt.wikipedia.org/wiki/Hino_da_Independ&#234;ncia_do_Brasil" TargetMode="External"/><Relationship Id="rId3" Type="http://schemas.openxmlformats.org/officeDocument/2006/relationships/hyperlink" Target="http://letras.terra.com.br/evaristo-ferreira-da-veiga/716500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posta de atividade, esboço inicial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 nossa Pátria é nossa cas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lisabete Cano Sabino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052640"/>
            <a:ext cx="73134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curso digital: Computador, internet, impressora, aparelho de som, CD, máquina digit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cursos materiais: papel sulfite e  dicionári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ividades a serem desenvolvidas pelos alunos do 2º ano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Refletir sobre o que é ser patriota e o amor a Pátri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SQUISAS NA INTERNET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no da  Independência do Brasil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ídeos com o Hino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1052640"/>
            <a:ext cx="89298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ítes pesquisados pelos aluno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1656720"/>
            <a:ext cx="788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scola.com/.../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inodaindependencia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ww.suapesquisa.com/.../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ino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dependencia_do_brasil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pt.wikipedia.org/wiki/Hino_da_Independ%C3%</a:t>
            </a:r>
            <a:r>
              <a:rPr b="0" lang="pt-BR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AAncia_do_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ttp://superdownloads.uol.com.br/download/37/hino-independencia-brasi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letras.terra.com.br/evaristo-ferreira-da-veiga/71650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26:38Z</dcterms:created>
  <dc:creator>sistema</dc:creator>
  <dc:description/>
  <dc:language>en-US</dc:language>
  <cp:lastModifiedBy>sistema</cp:lastModifiedBy>
  <dcterms:modified xsi:type="dcterms:W3CDTF">2009-09-23T14:24:53Z</dcterms:modified>
  <cp:revision>5</cp:revision>
  <dc:subject/>
  <dc:title>Proposta de atividade, esboço inicial</dc:title>
</cp:coreProperties>
</file>